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C3B95-4106-46A3-958B-3BA7E3452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67A48-AE5D-437C-B6BE-5452C3B47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7C2983-8705-450E-B244-A63E381C3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7C6424-2FC5-4B4D-9579-966CAB019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765161-F55F-4970-AD0D-44F83D89A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2072C4-BEB1-4103-877D-87B7CE5E5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DA8A35-674E-4617-A77F-0D0CA800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BF7CD5-65C4-4B4B-A122-26DB7CACE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E5F938-0F9E-4CBD-A87E-EA2C19184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5FA866-E325-4D20-834D-81FF4CD34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84CFD3-802C-4045-AE37-7C16AE92B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826736-C97A-4E68-A89C-5E6FD1EE4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EE263-3DD6-421F-A8B5-6898497CD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9E3204-9FE5-4D42-ACB1-000B3E789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600A68-2504-4BD6-AC81-2EA7220F6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6D4CC2-2F11-420A-89E1-B2EFE5E2B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A81874-5D34-435F-91FF-7A3BAABF5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3237C8-490E-43DD-BF88-A1419C1BE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9B2B0B-6CC5-4539-A78C-93452776D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4A6A8A-67BB-456B-9699-D82E79FE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85CCF5-8372-4444-B44A-3ACCD6BD4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AD5086-B8BF-4883-AE3D-E36F95DCA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4599BE-64DB-4331-9C9D-F7FD061EA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65FF1-7245-478A-92C8-C1DBC01C8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CB8442-85B7-4172-96A3-B002BDBF1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2E68F-7C43-4253-97F8-CAFECF470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3DF77-565D-43B6-AC9C-E4A1DDF1D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06AB6-ED88-424F-8CDA-CF90A96CD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F30CC-4E2F-4D2D-9809-EBCFA1070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36C85-3604-4D86-9BC2-62B655A00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667FF-DD2A-429E-A442-3E47C78AC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12EDA-3428-4687-8011-83359ED7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40D02-99DE-48FF-A88C-D53724605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7AC07-0E98-4652-975E-5ADB5FCB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E7F59-19F3-48F6-B7A3-1A9B4FF6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921DB-E4CE-4DCE-8F59-35807BC67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C634A-A401-48F7-A25A-C7E1A6419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907D5-5F6B-44C2-A7FD-FF65BDC35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3776D-F778-48B9-A836-9F83AC22F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8B469-6F97-4D6E-A476-F8AA59FD3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2E9B5-7816-4CDF-B49B-93DEA0164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D0C3E-9989-4BB7-8D7B-03FE5BC0E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7B0EF-120D-4E96-94CF-FA4AA0349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BAD23-E8F9-4276-8DAD-FD1FF1F8E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8CF30-36D0-4226-9218-B8E139581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B4970-818A-4D62-A11E-D93309CC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FA922-BA19-4D0E-A4A4-7A83361C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16AD2-6B09-4C09-9A6E-562CFFE1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8F695-1394-4EF1-AD54-7037F9668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25694-9E6D-4946-A4A4-58A664538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6E6D0-A47F-41D0-9F8A-F88D25313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AEC89-FAC7-4AFF-9493-C9B98CB22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1DB5C-6D5C-4AD8-92A9-27F1B254C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3EF60-AB7A-426C-AAC4-F32C53045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92810-62C1-4B9C-9CCF-C803BD726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13308-CB56-4E46-84F8-B0FBECF72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9CDCA-8CF2-42AC-835A-9AEF39C3D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ABC5E-C97C-4924-BE6B-EAD14D9E3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66B5C-BDEF-49FB-A9BA-7939D2688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10CFB-ED03-41EC-BF28-2E57E12F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B95E0-FE97-4362-B4E8-F9FBB4C9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A0F85-E821-439C-B06A-B67EE1E86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51990-29E4-4215-A2B6-B845B424E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BFD88-2AFF-4D33-9484-960C786BF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A8723-7C81-43EA-A141-514C31FA5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64036-1AA7-4670-8B09-796039C4C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686150-AF16-4894-A411-3AA58DF96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87893E-F55B-42F0-8A15-1A9909C9B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E43D6A-97A1-4252-B205-8AC98BDAF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A71E75-307D-40AE-B49F-ABC8C19F4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B4A9FD-A9D2-42D4-80CB-2AC4E0B88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87322-64CE-4A7A-9815-11895233E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2DE8F1-A43E-475C-83FE-4833B650F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2C895-EE74-466F-A1DC-E41ED3580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18313F-14A2-48FA-99D9-37A903412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4C4FC-D781-4D97-BE6C-2B3FFBDF6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817A5-3DC3-490F-B603-308AA66C5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E5797-EF1D-41DD-8F1E-0D76AD7DF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F8BA91-60CF-4D7A-96C4-A7EB406E5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B41506-A4BD-46E0-99B6-E2323BCA6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919B1B-B5DC-4AB1-9164-7BB61205C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76AE9E-04C8-4337-B67A-CFFF8AF61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7A843C-C42B-49B5-8783-6F401851C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42B017-1617-45FE-AD59-5F84914DA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80754C-7C59-4D84-8E33-CAF39389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41E2BA-C147-40DF-A25D-F2A985A0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055DBD-6F65-48F3-9F8A-EEEE5EC5E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1411D-63FB-4502-8EE4-2112FAD8F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897BD6-D643-4F74-813C-9685A01F4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A3EC0C-BC1D-4390-90A0-FF059807F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24CFAD-2052-4036-9270-F7B4E95D3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4B8391-CA00-46DA-B8C0-DEAEB081A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396490-AA94-4E02-A671-1C0B0E43A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0E4EA0-1667-40B4-AC6C-AD31EDBAE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0C8D56-BCEF-41F3-86D0-B11708FB1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3E88E6-EF7A-4298-B023-EC42FD4D0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7D4836-6EE5-4F88-9CB9-440EB183F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71494C-42C0-4240-8933-4E724992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20645-75FE-4425-B492-68E9343C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F339BE-2D42-4F41-A417-116ECA658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F8FF18-BA06-4221-84ED-7CF99F5A0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FC9059-A774-4B6E-A082-C009D4221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D6BAC3-54CC-462A-8179-16C67CC8E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FE6534-0F2B-44FA-9E88-0F6AE0F17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7130F3-28F8-4871-AC96-6B19BD116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9CA7A0-17CE-4ACA-9CC5-830925133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F18D38-D1CD-4774-AEFB-905CEF5F4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35C65D-6876-4ECB-A4CA-F4E570074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42FAA8-01F6-4A99-91B7-FD68D8545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2456B-33EE-44B9-9B83-B4BE6CB29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D6C89E-E067-42F2-8F82-BCA97B638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5C00AF-A7CF-436C-8F73-7F867257E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BCE42E-1D44-4368-BCF2-A6F2C429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2450BC-FAD9-4C46-AC6C-7170742E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12B7AE-895A-47AF-844B-366C1E0F6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A4B757-65D1-4BDB-897D-892446315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D486A2-76EF-4833-980B-92F4566F7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DA39EB-DFA7-40F4-A6DD-F42A52446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481574-E31C-4C45-A3AB-CF966A068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287B40-E55D-4B99-9891-149AF0C2D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9B302-9FEB-4458-AB13-4A90FC11FF5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1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502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dt" idx="28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ftr" idx="29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sldNum" idx="30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A80E0-F038-405F-9DE4-794FC31E980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E9BB6-3CAF-4972-9C6B-A3FBB93CA29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26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B9566-876D-48ED-A244-265B0FA5DA5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02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6" name="PlaceHolder 1"/>
          <p:cNvSpPr>
            <a:spLocks noGrp="1"/>
          </p:cNvSpPr>
          <p:nvPr>
            <p:ph type="dt" idx="1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ftr" idx="1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sldNum" idx="1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1E5CB-9677-4C39-9758-A3A68E2EB02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3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2C9F4-B547-4851-83D8-33EF297649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dt" idx="16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7D292-98E7-4B80-8D1D-14E9D40D1F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dt" idx="19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Num" idx="20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E7174-EE7D-43C6-BB61-E20AABB39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60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61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8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ftr" idx="21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08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09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14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dt" idx="22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ftr" idx="23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sldNum" idx="24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51B24-EDBA-4148-9130-3A66B1DCF4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457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25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26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2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B9130-9F3D-49C2-B236-9B131743BDC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50states.com/georgia.htm" TargetMode="External"/><Relationship Id="rId3" Type="http://schemas.openxmlformats.org/officeDocument/2006/relationships/image" Target="../media/image5.png"/><Relationship Id="rId4" Type="http://schemas.openxmlformats.org/officeDocument/2006/relationships/hyperlink" Target="http://quickfacts.census.gov/qfd/maps/georgia_map.html" TargetMode="External"/><Relationship Id="rId5" Type="http://schemas.openxmlformats.org/officeDocument/2006/relationships/image" Target="../media/image6.png"/><Relationship Id="rId6" Type="http://schemas.openxmlformats.org/officeDocument/2006/relationships/hyperlink" Target="http://www.50states.com/georgia.htm" TargetMode="External"/><Relationship Id="rId7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 txBox="1"/>
          <p:nvPr/>
        </p:nvSpPr>
        <p:spPr>
          <a:xfrm rot="5400000">
            <a:off x="464040" y="1135440"/>
            <a:ext cx="5029200" cy="3214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Georg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546" name=""/>
          <p:cNvSpPr/>
          <p:nvPr/>
        </p:nvSpPr>
        <p:spPr>
          <a:xfrm>
            <a:off x="5867280" y="4952880"/>
            <a:ext cx="2971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an Sloub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ptember 20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iod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uter 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3"/>
          <a:stretch/>
        </p:blipFill>
        <p:spPr>
          <a:xfrm>
            <a:off x="5486400" y="762120"/>
            <a:ext cx="3505320" cy="243828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4"/>
          <a:stretch/>
        </p:blipFill>
        <p:spPr>
          <a:xfrm>
            <a:off x="7772400" y="4800600"/>
            <a:ext cx="533520" cy="457200"/>
          </a:xfrm>
          <a:prstGeom prst="rect">
            <a:avLst/>
          </a:prstGeom>
          <a:ln w="0">
            <a:noFill/>
          </a:ln>
        </p:spPr>
      </p:pic>
      <p:sp>
        <p:nvSpPr>
          <p:cNvPr id="549" name=""/>
          <p:cNvSpPr/>
          <p:nvPr/>
        </p:nvSpPr>
        <p:spPr>
          <a:xfrm>
            <a:off x="5410080" y="3581280"/>
            <a:ext cx="3429000" cy="16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50 States,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Georgia song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,10/7/2010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50states.com/georg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/>
          </p:nvPr>
        </p:nvSpPr>
        <p:spPr>
          <a:xfrm>
            <a:off x="380880" y="15228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org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e capital: Atlan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pulation:8,186,45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tate that Entered union January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178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tto: Wisdom, justice and mode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ickname: Peach St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lower: Cherokee Ro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rd: Brown Thrash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ng: Georgia on my mi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l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5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5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5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5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5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5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5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5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5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5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" descr="Georgia State Fla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3520" y="228600"/>
            <a:ext cx="3504960" cy="2133720"/>
          </a:xfrm>
          <a:prstGeom prst="rect">
            <a:avLst/>
          </a:prstGeom>
          <a:ln w="0">
            <a:noFill/>
          </a:ln>
        </p:spPr>
      </p:pic>
      <p:pic>
        <p:nvPicPr>
          <p:cNvPr id="552" name="" descr="Click for detailed Georgia counties map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04920" y="4191120"/>
            <a:ext cx="4114800" cy="2435040"/>
          </a:xfrm>
          <a:prstGeom prst="rect">
            <a:avLst/>
          </a:prstGeom>
          <a:ln w="0">
            <a:noFill/>
          </a:ln>
        </p:spPr>
      </p:pic>
      <p:sp>
        <p:nvSpPr>
          <p:cNvPr id="553" name=""/>
          <p:cNvSpPr/>
          <p:nvPr/>
        </p:nvSpPr>
        <p:spPr>
          <a:xfrm>
            <a:off x="609480" y="3581280"/>
            <a:ext cx="73152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0 States .com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Georgia on my mind 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dnesday, September 22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10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hlinkClick r:id="rId6"/>
              </a:rPr>
              <a:t>http://www.50states.com/georgia.h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09480" y="3581280"/>
            <a:ext cx="73152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0 States .com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Georgia on my mind 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dnesday, September 22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10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http://www.50states.com/georgia.h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" descr="All images Copyright © 1997 - 2000 WriteLine. All Rights Reserved."/>
          <p:cNvPicPr/>
          <p:nvPr/>
        </p:nvPicPr>
        <p:blipFill>
          <a:blip r:embed="rId1"/>
          <a:stretch/>
        </p:blipFill>
        <p:spPr>
          <a:xfrm>
            <a:off x="152280" y="228600"/>
            <a:ext cx="4496040" cy="541008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All images Copyright © 1997 - 2000 WriteLine. All Rights Reserved."/>
          <p:cNvPicPr/>
          <p:nvPr/>
        </p:nvPicPr>
        <p:blipFill>
          <a:blip r:embed="rId2"/>
          <a:stretch/>
        </p:blipFill>
        <p:spPr>
          <a:xfrm>
            <a:off x="5029200" y="3733920"/>
            <a:ext cx="4114800" cy="2743200"/>
          </a:xfrm>
          <a:prstGeom prst="rect">
            <a:avLst/>
          </a:prstGeom>
          <a:ln w="0">
            <a:noFill/>
          </a:ln>
        </p:spPr>
      </p:pic>
      <p:pic>
        <p:nvPicPr>
          <p:cNvPr id="557" name="" descr="All images Copyright © 1997 - 2000 WriteLine. All Rights Reserved."/>
          <p:cNvPicPr/>
          <p:nvPr/>
        </p:nvPicPr>
        <p:blipFill>
          <a:blip r:embed="rId3"/>
          <a:stretch/>
        </p:blipFill>
        <p:spPr>
          <a:xfrm>
            <a:off x="5029200" y="304920"/>
            <a:ext cx="4114800" cy="342900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105520" y="533520"/>
            <a:ext cx="2286000" cy="32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Post cards from, </a:t>
            </a: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</a:rPr>
              <a:t>Carter Presidential  Center, Atlanta Georgia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http://www.postcardsfrom.com/t1/000526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562720" y="274320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886e0"/>
                </a:solidFill>
                <a:latin typeface="Arial"/>
              </a:rPr>
              <a:t>It would be nice to work he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5029200" y="4952880"/>
            <a:ext cx="41148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ost cards from, </a:t>
            </a:r>
            <a:r>
              <a:rPr b="0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Stone mountain,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Georgia,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9/23/2010,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http://www.postcardsfrom.com/t1/000523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80880" y="4572000"/>
            <a:ext cx="41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33520" y="2209680"/>
            <a:ext cx="3809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380880" y="5254560"/>
            <a:ext cx="39625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Post cards from, </a:t>
            </a:r>
            <a:r>
              <a:rPr b="0" lang="en-US" sz="1800" spc="-1" strike="noStrike" u="sng">
                <a:solidFill>
                  <a:srgbClr val="008000"/>
                </a:solidFill>
                <a:uFillTx/>
                <a:latin typeface="Arial"/>
              </a:rPr>
              <a:t>State Capital</a:t>
            </a:r>
            <a:r>
              <a:rPr b="0" lang="en-US" sz="1800" spc="-1" strike="noStrike" u="sng">
                <a:solidFill>
                  <a:srgbClr val="a886e0"/>
                </a:solidFill>
                <a:uFillTx/>
                <a:latin typeface="Arial"/>
              </a:rPr>
              <a:t> Atlanta Georgia, </a:t>
            </a:r>
            <a:r>
              <a:rPr b="0" lang="en-US" sz="1800" spc="-1" strike="noStrike">
                <a:solidFill>
                  <a:srgbClr val="a886e0"/>
                </a:solidFill>
                <a:latin typeface="Arial"/>
              </a:rPr>
              <a:t>9/24/201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http://www.postcardsfrom.com/t1/000522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438280" y="53352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ou would need to be pretty important to work her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334120" y="396252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cc"/>
                </a:solidFill>
                <a:latin typeface="Tahoma"/>
              </a:rPr>
              <a:t>This must be a big tourist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99cc"/>
                </a:solidFill>
                <a:latin typeface="Tahoma"/>
              </a:rPr>
              <a:t>attrac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152280" y="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esting facts about Georgi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re are 57,919 square miles wich means it is the 21</a:t>
            </a:r>
            <a:r>
              <a:rPr b="0" lang="en-US" sz="31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largest state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13:21:39Z</dcterms:created>
  <dc:creator>install</dc:creator>
  <dc:description/>
  <dc:language>en-US</dc:language>
  <cp:lastModifiedBy>install</cp:lastModifiedBy>
  <dcterms:modified xsi:type="dcterms:W3CDTF">2010-10-14T13:25:42Z</dcterms:modified>
  <cp:revision>18</cp:revision>
  <dc:subject/>
  <dc:title>Slide 1</dc:title>
</cp:coreProperties>
</file>